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32.wmf" ContentType="image/x-wmf"/>
  <Override PartName="/ppt/media/image24.jpeg" ContentType="image/jpeg"/>
  <Override PartName="/ppt/media/image18.jpeg" ContentType="image/jpeg"/>
  <Override PartName="/ppt/media/image17.jpeg" ContentType="image/jpeg"/>
  <Override PartName="/ppt/media/image6.jpeg" ContentType="image/jpeg"/>
  <Override PartName="/ppt/media/image27.jpeg" ContentType="image/jpeg"/>
  <Override PartName="/ppt/media/image13.wmf" ContentType="image/x-wmf"/>
  <Override PartName="/ppt/media/image10.gif" ContentType="image/gif"/>
  <Override PartName="/ppt/media/image3.png" ContentType="image/png"/>
  <Override PartName="/ppt/media/image33.png" ContentType="image/png"/>
  <Override PartName="/ppt/media/image28.gif" ContentType="image/gif"/>
  <Override PartName="/ppt/media/image9.jpeg" ContentType="image/jpeg"/>
  <Override PartName="/ppt/media/image30.jpeg" ContentType="image/jpeg"/>
  <Override PartName="/ppt/media/image7.jpeg" ContentType="image/jpeg"/>
  <Override PartName="/ppt/media/image31.gif" ContentType="image/gif"/>
  <Override PartName="/ppt/media/image34.wmf" ContentType="image/x-wmf"/>
  <Override PartName="/ppt/media/image11.wmf" ContentType="image/x-wmf"/>
  <Override PartName="/ppt/media/image5.jpeg" ContentType="image/jpeg"/>
  <Override PartName="/ppt/media/image26.jpeg" ContentType="image/jpeg"/>
  <Override PartName="/ppt/media/image8.wmf" ContentType="image/x-wmf"/>
  <Override PartName="/ppt/media/image4.jpeg" ContentType="image/jpeg"/>
  <Override PartName="/ppt/media/image20.png" ContentType="image/png"/>
  <Override PartName="/ppt/media/image2.jpeg" ContentType="image/jpeg"/>
  <Override PartName="/ppt/media/image25.wmf" ContentType="image/x-wmf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wmf" ContentType="image/x-wmf"/>
  <Override PartName="/ppt/media/image16.gif" ContentType="image/gif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A19B-0F89-4831-9ABC-4E0FD0D6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5EFD-761F-4945-82CF-3AF704CD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4331-393B-4854-AB30-01BDA6BC9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2A9C-6920-46D1-B7DB-59E98D12B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D4B2-CD7F-4E16-9F5C-21C4B0EAC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ABC1-D774-4CF1-B638-21E907DC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DB4C-368E-484B-BB31-E7B07B18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C2D8-D048-47BA-8208-7DB2206C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E27C-C7E4-4BDB-AFC5-3967D09F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8BAF-B624-447B-9279-F7F6A8E1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C6DA-29CF-40AC-BA1D-B66BB807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3EC4-4B2D-4E32-AEAE-7785EFE8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E438-41B9-4F2C-8432-6E7E34DA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5F09-DE82-4ABD-85B0-409BCE5D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2B9B-DC61-46C5-98A7-19B3C1F4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DEC3-5825-46ED-936E-068C8D5D9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184D-F2C3-4C0A-832A-5653B1C37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529B-EDF7-4DE2-86A1-8350914A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64EC-9D9F-41FF-8B3E-130BA9F4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E15D-4B13-4717-BE84-731FE2A9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5131-89E2-4518-A705-6AB21D51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576A-E6E2-4B16-8DB1-B9DC8355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06C0-8608-4BA9-9B0E-5E353566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E129-D5AE-4811-A664-659725EE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45ED-0B1D-4C92-817F-4FE34F24B2CB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1C58-FE52-47D4-9391-AC13DA6EA9CE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png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ausport.gov.au/" TargetMode="External"/><Relationship Id="rId2" Type="http://schemas.openxmlformats.org/officeDocument/2006/relationships/hyperlink" Target="http://www.find30.com.au/" TargetMode="External"/><Relationship Id="rId3" Type="http://schemas.openxmlformats.org/officeDocument/2006/relationships/hyperlink" Target="http://www.walkingbus.com/" TargetMode="External"/><Relationship Id="rId4" Type="http://schemas.openxmlformats.org/officeDocument/2006/relationships/hyperlink" Target="http://www.newhealth.govt.nz/" TargetMode="External"/><Relationship Id="rId5" Type="http://schemas.openxmlformats.org/officeDocument/2006/relationships/hyperlink" Target="http://www.10000steps.org.au/rockhampton/" TargetMode="External"/><Relationship Id="rId6" Type="http://schemas.openxmlformats.org/officeDocument/2006/relationships/hyperlink" Target="http://www.travelsmart.gov.au/" TargetMode="External"/><Relationship Id="rId7" Type="http://schemas.openxmlformats.org/officeDocument/2006/relationships/hyperlink" Target="http://www.who.int/" TargetMode="External"/><Relationship Id="rId8" Type="http://schemas.openxmlformats.org/officeDocument/2006/relationships/hyperlink" Target="http://www.heartfoundation.com.au/" TargetMode="External"/><Relationship Id="rId9" Type="http://schemas.openxmlformats.org/officeDocument/2006/relationships/hyperlink" Target="http://www.vichealth.vic.gov.au/" TargetMode="External"/><Relationship Id="rId10" Type="http://schemas.openxmlformats.org/officeDocument/2006/relationships/hyperlink" Target="http://www.beactive.com.au/" TargetMode="External"/><Relationship Id="rId11" Type="http://schemas.openxmlformats.org/officeDocument/2006/relationships/hyperlink" Target="http://www.goforyourlife.vic.gov.au/" TargetMode="External"/><Relationship Id="rId12" Type="http://schemas.openxmlformats.org/officeDocument/2006/relationships/hyperlink" Target="http://www.ais.org.au/condition/index.asp" TargetMode="External"/><Relationship Id="rId13" Type="http://schemas.openxmlformats.org/officeDocument/2006/relationships/hyperlink" Target="http://home.hia.no/%7Estephens/exphys.htm" TargetMode="External"/><Relationship Id="rId14" Type="http://schemas.openxmlformats.org/officeDocument/2006/relationships/hyperlink" Target="http://www.unm.edu/%7Elkravitz/Exercise%20Phys/cardiopulmonary.html" TargetMode="External"/><Relationship Id="rId15" Type="http://schemas.openxmlformats.org/officeDocument/2006/relationships/hyperlink" Target="http://www.gssiweb.com/sportssciencecenter/topic.cfm?id=56" TargetMode="External"/><Relationship Id="rId16" Type="http://schemas.openxmlformats.org/officeDocument/2006/relationships/hyperlink" Target="http://www.sportsci.org/" TargetMode="External"/><Relationship Id="rId17" Type="http://schemas.openxmlformats.org/officeDocument/2006/relationships/hyperlink" Target="http://www.iwu.edu/%7Ebkauth/330/330-9.PPT" TargetMode="External"/><Relationship Id="rId18" Type="http://schemas.openxmlformats.org/officeDocument/2006/relationships/hyperlink" Target="http://health.howstuffworks.com/sports-physiology15.htm" TargetMode="External"/><Relationship Id="rId19" Type="http://schemas.openxmlformats.org/officeDocument/2006/relationships/hyperlink" Target="http://www.physsportsmed.com/issues/2003/0803/kraemer.htm" TargetMode="External"/><Relationship Id="rId20" Type="http://schemas.openxmlformats.org/officeDocument/2006/relationships/slide" Target="slide2.xml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72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259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raining Adap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250920" y="2421000"/>
            <a:ext cx="309708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ex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elson Physical Education VCE Units 3&amp;4: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AU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Edition – Malpeli, Horton, Davey and Telford 200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Live It Up 2: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Edition – Smyth, Brown, Judge, McCallum and Pritchard 200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6" descr="bookCover_34"/>
          <p:cNvPicPr/>
          <p:nvPr/>
        </p:nvPicPr>
        <p:blipFill>
          <a:blip r:embed="rId1"/>
          <a:stretch/>
        </p:blipFill>
        <p:spPr>
          <a:xfrm>
            <a:off x="3492360" y="2565360"/>
            <a:ext cx="1255680" cy="1657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7" descr="Live it up 2"/>
          <p:cNvPicPr/>
          <p:nvPr/>
        </p:nvPicPr>
        <p:blipFill>
          <a:blip r:embed="rId2"/>
          <a:stretch/>
        </p:blipFill>
        <p:spPr>
          <a:xfrm>
            <a:off x="3513240" y="4365720"/>
            <a:ext cx="1268280" cy="1655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9" descr="muscleMan"/>
          <p:cNvPicPr/>
          <p:nvPr/>
        </p:nvPicPr>
        <p:blipFill>
          <a:blip r:embed="rId3"/>
          <a:stretch/>
        </p:blipFill>
        <p:spPr>
          <a:xfrm>
            <a:off x="5292720" y="1844640"/>
            <a:ext cx="33908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1844280"/>
            <a:ext cx="8501040" cy="4753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plete the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data analysis task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on page 267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work 11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bookCover_34"/>
          <p:cNvPicPr/>
          <p:nvPr/>
        </p:nvPicPr>
        <p:blipFill>
          <a:blip r:embed="rId1"/>
          <a:stretch/>
        </p:blipFill>
        <p:spPr>
          <a:xfrm>
            <a:off x="6948360" y="414972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MMj03545120000[1]"/>
          <p:cNvPicPr/>
          <p:nvPr/>
        </p:nvPicPr>
        <p:blipFill>
          <a:blip r:embed="rId2"/>
          <a:stretch/>
        </p:blipFill>
        <p:spPr>
          <a:xfrm>
            <a:off x="8459640" y="189000"/>
            <a:ext cx="471600" cy="56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95280" y="1844280"/>
            <a:ext cx="8501040" cy="4753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plete the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laboratory task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on page 269-70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work 11.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bookCover_34"/>
          <p:cNvPicPr/>
          <p:nvPr/>
        </p:nvPicPr>
        <p:blipFill>
          <a:blip r:embed="rId1"/>
          <a:stretch/>
        </p:blipFill>
        <p:spPr>
          <a:xfrm>
            <a:off x="6948360" y="414972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MMj03545120000[1]"/>
          <p:cNvPicPr/>
          <p:nvPr/>
        </p:nvPicPr>
        <p:blipFill>
          <a:blip r:embed="rId2"/>
          <a:stretch/>
        </p:blipFill>
        <p:spPr>
          <a:xfrm>
            <a:off x="8459640" y="189000"/>
            <a:ext cx="471600" cy="56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187440"/>
            <a:ext cx="76946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29a744"/>
                </a:solidFill>
                <a:latin typeface="Arial"/>
              </a:rPr>
              <a:t>Respiratory Training Adap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Training Adap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Respiratory Training Adap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64818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ecreased minute ventilation-  Lungs become more efficient as a result of training. Ventilation is therefore reduced at sub-maximal workloa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creased pulmonary diffusion – oxygen is more readily extracted from the alveo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creased tidal volume (Amount of air inspired and expired during breathing)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Ventilatory musculature – Muscles responsible for breathing require less oxy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mproved lung function –due to improved lung volume and alveolar capacity surface ar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erobic capacity – Improves due to an increase in oxygen supply to the working musc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See table 11.4 p.27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creased VO</a:t>
            </a:r>
            <a:r>
              <a:rPr b="0" lang="en-A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max – Due t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crease in cardiac outpu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crease in RBC number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crease in a-VO</a:t>
            </a:r>
            <a:r>
              <a:rPr b="0" lang="en-AU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if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crease in muscle capillar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mproved oxygen extra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3" descr="Respiratory-System"/>
          <p:cNvPicPr/>
          <p:nvPr/>
        </p:nvPicPr>
        <p:blipFill>
          <a:blip r:embed="rId1"/>
          <a:stretch/>
        </p:blipFill>
        <p:spPr>
          <a:xfrm>
            <a:off x="6877080" y="1844640"/>
            <a:ext cx="1942920" cy="2521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5" descr="red_blood_cells"/>
          <p:cNvPicPr/>
          <p:nvPr/>
        </p:nvPicPr>
        <p:blipFill>
          <a:blip r:embed="rId2"/>
          <a:stretch/>
        </p:blipFill>
        <p:spPr>
          <a:xfrm>
            <a:off x="4788000" y="4581360"/>
            <a:ext cx="40575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Oxygen extraction: a-V0</a:t>
            </a:r>
            <a:r>
              <a:rPr b="0" lang="en-AU" sz="3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 difference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47840" y="1733400"/>
            <a:ext cx="468936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-V0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difference = Arteriovenous oxygen difference: </a:t>
            </a: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“difference in oxygen consumption when comparing that in the arterioles to the venules, and an indirect measure of how much oxygen muscles are us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increase in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a-V0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difference results in more blood being pumped to active muscles (especially slow-twit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uscle fibres better at extracting and processing oxygen as a result of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increased mitochondria numbers, more oxidative enzymes and increased levels of myoglob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 of this is due to the oxygen demands of the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5900760" y="1773360"/>
            <a:ext cx="1771560" cy="2376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2"/>
          <a:stretch/>
        </p:blipFill>
        <p:spPr>
          <a:xfrm>
            <a:off x="7477200" y="4437000"/>
            <a:ext cx="1493640" cy="22305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"/>
          <p:cNvSpPr/>
          <p:nvPr/>
        </p:nvSpPr>
        <p:spPr>
          <a:xfrm>
            <a:off x="7451640" y="2133720"/>
            <a:ext cx="16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12 mL/100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5724360" y="47973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18 mL/100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95280" y="1844280"/>
            <a:ext cx="8501040" cy="47530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plete questions 1-4 page 273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bookCover_34"/>
          <p:cNvPicPr/>
          <p:nvPr/>
        </p:nvPicPr>
        <p:blipFill>
          <a:blip r:embed="rId1"/>
          <a:stretch/>
        </p:blipFill>
        <p:spPr>
          <a:xfrm>
            <a:off x="6850080" y="400536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j0283719"/>
          <p:cNvPicPr/>
          <p:nvPr/>
        </p:nvPicPr>
        <p:blipFill>
          <a:blip r:embed="rId2"/>
          <a:stretch/>
        </p:blipFill>
        <p:spPr>
          <a:xfrm>
            <a:off x="8028000" y="189000"/>
            <a:ext cx="828720" cy="42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95280" y="1844280"/>
            <a:ext cx="8501040" cy="4753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plete the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laboratory task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on page 274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work 11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bookCover_34"/>
          <p:cNvPicPr/>
          <p:nvPr/>
        </p:nvPicPr>
        <p:blipFill>
          <a:blip r:embed="rId1"/>
          <a:stretch/>
        </p:blipFill>
        <p:spPr>
          <a:xfrm>
            <a:off x="6948360" y="414972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MMj03545120000[1]"/>
          <p:cNvPicPr/>
          <p:nvPr/>
        </p:nvPicPr>
        <p:blipFill>
          <a:blip r:embed="rId2"/>
          <a:stretch/>
        </p:blipFill>
        <p:spPr>
          <a:xfrm>
            <a:off x="8459640" y="189000"/>
            <a:ext cx="471600" cy="56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187440"/>
            <a:ext cx="77662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29a744"/>
                </a:solidFill>
                <a:latin typeface="Arial"/>
              </a:rPr>
              <a:t>Muscular Training Adapta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Training Adap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uscular Training Adapta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612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thletes need to use specific training methods to cause muscular adaptations for their sp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erobic – Trains the slow twitch (Type I) fib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naerobic – Trains fast twitch (Type II) fib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uscle fibre type and percentage that make up the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uscle fibre type can change, eg for elite endurance athletes from 70-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enetics a big advantage to start with x amount of fibre perce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You are born with x amount of fast and slow twitch fibres. BUT you can train and gain more of one typ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YTH – “with training you can change from fast twitch to slow twitch or vice versa.” IM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OWEVER – fast twitch fibres have been known to take on slow twitch characteristics in response to aerobic trai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22664_W400XH600"/>
          <p:cNvPicPr/>
          <p:nvPr/>
        </p:nvPicPr>
        <p:blipFill>
          <a:blip r:embed="rId1"/>
          <a:stretch/>
        </p:blipFill>
        <p:spPr>
          <a:xfrm>
            <a:off x="6588000" y="1700280"/>
            <a:ext cx="22543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Aerobic (Muscular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creased oxygen utilisation – Increased size and number and density of mitochond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creased myoglobin st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creased muscular fuel stores ie.Glycogen, fatty acids, triglycerides and oxidative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creased capillary density to slow twitch fib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creased use of fat at sub-maximal 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creased stores and use of intramuscular triglycer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creased oxidation of glucose and fats – Ability to metabolise and extract energy has improved. The body can therefore use ‘glycogen sparing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creased use of lactic acid sy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ome muscle fibre adap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29a744"/>
                </a:solidFill>
                <a:latin typeface="Arial"/>
              </a:rPr>
              <a:t>Principle of Adapt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Training Adap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Anaerobic (Muscular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20120" cy="24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uscular Hypertrophy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– Enlargement of the fast twitch muscle fib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creased muscular stores of ATP, PC, creatine and glyco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creased ATP-PC splitting and resynthesis of enzy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creased glycolytic capacity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– Enhances lactic acid systems ability to use glyco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ardiac hypertrophy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– Increases contraction forces exerted by the left ventricle in the he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600_tennis"/>
          <p:cNvPicPr/>
          <p:nvPr/>
        </p:nvPicPr>
        <p:blipFill>
          <a:blip r:embed="rId1"/>
          <a:stretch/>
        </p:blipFill>
        <p:spPr>
          <a:xfrm>
            <a:off x="1692360" y="4076640"/>
            <a:ext cx="571500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Anaerobic (Muscular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44704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creased contractile proteins in musc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creased myosin ATPase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– Molecule responsible for splitting ATP into A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creased muscle buffering capacity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– Muscles able to tolerate higher levels of fatiguing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uscle hyperplasia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–Research in animals suggest that new muscle fibres may form under st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Other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– Increase in strength of connective tissue, number of motor units, speed on nerve impulses and muscular contraction sp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0" descr="03preseason_rich"/>
          <p:cNvPicPr/>
          <p:nvPr/>
        </p:nvPicPr>
        <p:blipFill>
          <a:blip r:embed="rId1"/>
          <a:stretch/>
        </p:blipFill>
        <p:spPr>
          <a:xfrm>
            <a:off x="611280" y="4437000"/>
            <a:ext cx="3809880" cy="2138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lionsbrown_gallery__470x314"/>
          <p:cNvPicPr/>
          <p:nvPr/>
        </p:nvPicPr>
        <p:blipFill>
          <a:blip r:embed="rId2"/>
          <a:stretch/>
        </p:blipFill>
        <p:spPr>
          <a:xfrm>
            <a:off x="4500720" y="4437000"/>
            <a:ext cx="447660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424720" cy="48956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86920" y="151920"/>
            <a:ext cx="7728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5280" y="1844280"/>
            <a:ext cx="8501040" cy="4753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plete the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case study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on page 280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work 11.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bookCover_34"/>
          <p:cNvPicPr/>
          <p:nvPr/>
        </p:nvPicPr>
        <p:blipFill>
          <a:blip r:embed="rId1"/>
          <a:stretch/>
        </p:blipFill>
        <p:spPr>
          <a:xfrm>
            <a:off x="6948360" y="414972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MMj03545120000[1]"/>
          <p:cNvPicPr/>
          <p:nvPr/>
        </p:nvPicPr>
        <p:blipFill>
          <a:blip r:embed="rId2"/>
          <a:stretch/>
        </p:blipFill>
        <p:spPr>
          <a:xfrm>
            <a:off x="8459640" y="189000"/>
            <a:ext cx="471600" cy="56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187440"/>
            <a:ext cx="77662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29a744"/>
                </a:solidFill>
                <a:latin typeface="Arial"/>
              </a:rPr>
              <a:t>Adaptations are Reversib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Training Adap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Adaptations are Reversib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5300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daptations are reduced and then lost after stopping regular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ee table 11.6 p.2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versibility principle applies when an athlete becomes ina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s a result, athletes need to undertake a vigorous pre-season months before the in-season sta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refore maintenance in the off-season is required to minimise reversing the adap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9" descr="1_1721l"/>
          <p:cNvPicPr/>
          <p:nvPr/>
        </p:nvPicPr>
        <p:blipFill>
          <a:blip r:embed="rId1"/>
          <a:stretch/>
        </p:blipFill>
        <p:spPr>
          <a:xfrm>
            <a:off x="6516720" y="1844640"/>
            <a:ext cx="2151000" cy="2158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3" descr="arnierexbig290305_450x450"/>
          <p:cNvPicPr/>
          <p:nvPr/>
        </p:nvPicPr>
        <p:blipFill>
          <a:blip r:embed="rId2"/>
          <a:stretch/>
        </p:blipFill>
        <p:spPr>
          <a:xfrm>
            <a:off x="6372360" y="4148280"/>
            <a:ext cx="241452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95280" y="1844280"/>
            <a:ext cx="8501040" cy="47530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plete questions 1-5 page 281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bookCover_34"/>
          <p:cNvPicPr/>
          <p:nvPr/>
        </p:nvPicPr>
        <p:blipFill>
          <a:blip r:embed="rId1"/>
          <a:stretch/>
        </p:blipFill>
        <p:spPr>
          <a:xfrm>
            <a:off x="6850080" y="400536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j0283719"/>
          <p:cNvPicPr/>
          <p:nvPr/>
        </p:nvPicPr>
        <p:blipFill>
          <a:blip r:embed="rId2"/>
          <a:stretch/>
        </p:blipFill>
        <p:spPr>
          <a:xfrm>
            <a:off x="8028000" y="189000"/>
            <a:ext cx="828720" cy="42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50560" y="1844280"/>
            <a:ext cx="8645400" cy="4753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plete the review questions 1-5 page 283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Your Knowledg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bookCover_34"/>
          <p:cNvPicPr/>
          <p:nvPr/>
        </p:nvPicPr>
        <p:blipFill>
          <a:blip r:embed="rId1"/>
          <a:stretch/>
        </p:blipFill>
        <p:spPr>
          <a:xfrm>
            <a:off x="6850080" y="400536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j0236235"/>
          <p:cNvPicPr/>
          <p:nvPr/>
        </p:nvPicPr>
        <p:blipFill>
          <a:blip r:embed="rId2"/>
          <a:stretch/>
        </p:blipFill>
        <p:spPr>
          <a:xfrm>
            <a:off x="8242200" y="189000"/>
            <a:ext cx="58752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50560" y="1844280"/>
            <a:ext cx="8645400" cy="4753080"/>
          </a:xfrm>
          <a:prstGeom prst="rect">
            <a:avLst/>
          </a:prstGeom>
          <a:solidFill>
            <a:srgbClr val="ccff66"/>
          </a:solidFill>
          <a:ln w="9360">
            <a:solidFill>
              <a:srgbClr val="00cc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plete the chapter questions on page 88-99 of Nelson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Peak Performance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k Performan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j0236235"/>
          <p:cNvPicPr/>
          <p:nvPr/>
        </p:nvPicPr>
        <p:blipFill>
          <a:blip r:embed="rId1"/>
          <a:stretch/>
        </p:blipFill>
        <p:spPr>
          <a:xfrm>
            <a:off x="8242200" y="189000"/>
            <a:ext cx="587520" cy="792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Peak Perf"/>
          <p:cNvPicPr/>
          <p:nvPr/>
        </p:nvPicPr>
        <p:blipFill>
          <a:blip r:embed="rId2"/>
          <a:stretch/>
        </p:blipFill>
        <p:spPr>
          <a:xfrm>
            <a:off x="7289640" y="4581360"/>
            <a:ext cx="1258920" cy="17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50560" y="1844280"/>
            <a:ext cx="86454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ad the summarised information of pages 81-95 of PHYS ED Notes and complete the revision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 ED Not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physed-notes3_4"/>
          <p:cNvPicPr/>
          <p:nvPr/>
        </p:nvPicPr>
        <p:blipFill>
          <a:blip r:embed="rId1"/>
          <a:stretch/>
        </p:blipFill>
        <p:spPr>
          <a:xfrm>
            <a:off x="7209000" y="4365720"/>
            <a:ext cx="1430280" cy="2019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MMAG00299_0000[1]"/>
          <p:cNvPicPr/>
          <p:nvPr/>
        </p:nvPicPr>
        <p:blipFill>
          <a:blip r:embed="rId2"/>
          <a:stretch/>
        </p:blipFill>
        <p:spPr>
          <a:xfrm>
            <a:off x="7740720" y="260280"/>
            <a:ext cx="113508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rinciple of Adapt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5925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thletes train to adapt their bodies to a particular sport/activ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raining should b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pecific to their 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pecific to the desired outcome as a result of adapt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AID Princi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= Specific </a:t>
            </a:r>
            <a:r>
              <a:rPr b="0" lang="en-AU" sz="1600" spc="-1" strike="noStrike">
                <a:solidFill>
                  <a:srgbClr val="0066ff"/>
                </a:solidFill>
                <a:latin typeface="Arial"/>
              </a:rPr>
              <a:t>A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= Adaptation </a:t>
            </a:r>
            <a:r>
              <a:rPr b="0" lang="en-AU" sz="1600" spc="-1" strike="noStrike">
                <a:solidFill>
                  <a:srgbClr val="0066ff"/>
                </a:solidFill>
                <a:latin typeface="Arial"/>
              </a:rPr>
              <a:t>I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= Imposed  </a:t>
            </a:r>
            <a:r>
              <a:rPr b="0" lang="en-AU" sz="1600" spc="-1" strike="noStrike">
                <a:solidFill>
                  <a:srgbClr val="0066ff"/>
                </a:solidFill>
                <a:latin typeface="Arial"/>
              </a:rPr>
              <a:t>D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= Dem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daptation = “a long-term physiological change in response to training loads that allows the body to meet new deman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ress on the body causes adapt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plateau occurs when the training load is not sufficient to cause str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daptations can be classified as acute and chroni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Acute – Immediate physiological response to exercise which last the duration of the exercise session. Type of training not import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Chronic – Long-term adaptations to exercis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 this chapter, we will focus on </a:t>
            </a:r>
            <a:r>
              <a:rPr b="0" lang="en-AU" sz="1600" spc="-1" strike="noStrike" u="sng">
                <a:solidFill>
                  <a:srgbClr val="000000"/>
                </a:solidFill>
                <a:uFillTx/>
                <a:latin typeface="Arial"/>
              </a:rPr>
              <a:t>chronic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chan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huge_muscles_2-782731"/>
          <p:cNvPicPr/>
          <p:nvPr/>
        </p:nvPicPr>
        <p:blipFill>
          <a:blip r:embed="rId1"/>
          <a:stretch/>
        </p:blipFill>
        <p:spPr>
          <a:xfrm>
            <a:off x="6659640" y="1773360"/>
            <a:ext cx="2014560" cy="2663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fiber1"/>
          <p:cNvPicPr/>
          <p:nvPr/>
        </p:nvPicPr>
        <p:blipFill>
          <a:blip r:embed="rId2"/>
          <a:stretch/>
        </p:blipFill>
        <p:spPr>
          <a:xfrm>
            <a:off x="6300720" y="4508640"/>
            <a:ext cx="25243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a744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151920"/>
            <a:ext cx="7799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VCAA Questions - 200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686800" cy="2447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"/>
          <p:cNvPicPr/>
          <p:nvPr/>
        </p:nvPicPr>
        <p:blipFill>
          <a:blip r:embed="rId2"/>
          <a:stretch/>
        </p:blipFill>
        <p:spPr>
          <a:xfrm>
            <a:off x="250920" y="4365720"/>
            <a:ext cx="8642160" cy="2193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"/>
          <p:cNvPicPr/>
          <p:nvPr/>
        </p:nvPicPr>
        <p:blipFill>
          <a:blip r:embed="rId3"/>
          <a:stretch/>
        </p:blipFill>
        <p:spPr>
          <a:xfrm>
            <a:off x="6156360" y="3357720"/>
            <a:ext cx="26431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026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Web Links – Chapter 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Group 1027"/>
          <p:cNvGrpSpPr/>
          <p:nvPr/>
        </p:nvGrpSpPr>
        <p:grpSpPr>
          <a:xfrm>
            <a:off x="0" y="1562040"/>
            <a:ext cx="9144000" cy="4533480"/>
            <a:chOff x="0" y="1562040"/>
            <a:chExt cx="9144000" cy="4533480"/>
          </a:xfrm>
        </p:grpSpPr>
        <p:sp>
          <p:nvSpPr>
            <p:cNvPr id="218" name="Rectangle 1028"/>
            <p:cNvSpPr/>
            <p:nvPr/>
          </p:nvSpPr>
          <p:spPr>
            <a:xfrm>
              <a:off x="0" y="1562040"/>
              <a:ext cx="9144000" cy="4533480"/>
            </a:xfrm>
            <a:prstGeom prst="rect">
              <a:avLst/>
            </a:prstGeom>
            <a:solidFill>
              <a:srgbClr val="b7b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Group 1029"/>
            <p:cNvGrpSpPr/>
            <p:nvPr/>
          </p:nvGrpSpPr>
          <p:grpSpPr>
            <a:xfrm>
              <a:off x="0" y="1562040"/>
              <a:ext cx="9144000" cy="4533120"/>
              <a:chOff x="0" y="1562040"/>
              <a:chExt cx="9144000" cy="4533120"/>
            </a:xfrm>
          </p:grpSpPr>
          <p:grpSp>
            <p:nvGrpSpPr>
              <p:cNvPr id="220" name="Group 1030"/>
              <p:cNvGrpSpPr/>
              <p:nvPr/>
            </p:nvGrpSpPr>
            <p:grpSpPr>
              <a:xfrm>
                <a:off x="0" y="1562040"/>
                <a:ext cx="9144000" cy="3724920"/>
                <a:chOff x="0" y="1562040"/>
                <a:chExt cx="9144000" cy="3724920"/>
              </a:xfrm>
            </p:grpSpPr>
            <p:sp>
              <p:nvSpPr>
                <p:cNvPr id="221" name="Rectangle 1031"/>
                <p:cNvSpPr/>
                <p:nvPr/>
              </p:nvSpPr>
              <p:spPr>
                <a:xfrm>
                  <a:off x="0" y="1562040"/>
                  <a:ext cx="360" cy="360"/>
                </a:xfrm>
                <a:prstGeom prst="rect">
                  <a:avLst/>
                </a:prstGeom>
                <a:solidFill>
                  <a:srgbClr val="b7be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Rectangle 1032"/>
                <p:cNvSpPr/>
                <p:nvPr/>
              </p:nvSpPr>
              <p:spPr>
                <a:xfrm>
                  <a:off x="0" y="1562040"/>
                  <a:ext cx="9144000" cy="3724920"/>
                </a:xfrm>
                <a:prstGeom prst="rect">
                  <a:avLst/>
                </a:prstGeom>
                <a:solidFill>
                  <a:srgbClr val="b7be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Australian Sports Commission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"/>
                    </a:rPr>
                    <a:t>http://www.ausport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Find 30 promotion (Government of WA Department of Health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"/>
                    </a:rPr>
                    <a:t>http://www.find30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Walking School Bus promotion (UK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"/>
                    </a:rPr>
                    <a:t>http://www.walkingbus.com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Ministry of Health (New Zealand) toolkits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4"/>
                    </a:rPr>
                    <a:t>http://www.newhealth.govt.nz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The 10,000 Steps Rockhampton project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5"/>
                    </a:rPr>
                    <a:t>http://www.10000steps.org.au/rockhampton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Travelsmart Australia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6"/>
                    </a:rPr>
                    <a:t>http://www.travelsmart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World Health Organisation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7"/>
                    </a:rPr>
                    <a:t>http://www.who.int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rt Foundation Australia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8"/>
                    </a:rPr>
                    <a:t>http://www.heartfoundation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VicHealth (The Victorian Health Promotion Foundation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9"/>
                    </a:rPr>
                    <a:t>http://www.vichealth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e Active promotion (Government of South Australia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0"/>
                    </a:rPr>
                    <a:t>http://www.beactive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Go For Your Life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1"/>
                    </a:rPr>
                    <a:t>http://www.goforyourlife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Physical Activity Resources for Health Professionals 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–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Introduction (Centre for disease control and prevention 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–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USA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cdc.gov/nccdphp/dnpa/physical/health_professionals/index.htm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lth Promotion (Public Health Agency of Canada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phac-aspc.gc.ca/hp-ps/index.html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Strategic Inter-Governmental Forum on Physical Activity and Health (SIGPAH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nphp.gov.au/workprog/sigpah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lthy youth (Centre for disease control and prevention (USA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cdc.gov/HealthyYouth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America On The Move promotion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americaonthemove.org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Papers from the International Journal of Behavioural Nutrition and Physical Activity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ijbnpa.org/home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Department of health and aging (Australian government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health.gov.au/internet/wcms/publishing.nsf/content/home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uilding a healthy, active Australia (Australian government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healthyactive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National Public Health Partnership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nphp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e Active promotion (Government of South Australia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beactive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Sport and Recreation Australia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sport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3" name="Rectangle 1033"/>
              <p:cNvSpPr/>
              <p:nvPr/>
            </p:nvSpPr>
            <p:spPr>
              <a:xfrm>
                <a:off x="0" y="1562040"/>
                <a:ext cx="9144000" cy="4533120"/>
              </a:xfrm>
              <a:prstGeom prst="rect">
                <a:avLst/>
              </a:prstGeom>
              <a:solidFill>
                <a:srgbClr val="b7be19"/>
              </a:solidFill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4" name="Rectangle 1034"/>
          <p:cNvSpPr/>
          <p:nvPr/>
        </p:nvSpPr>
        <p:spPr>
          <a:xfrm>
            <a:off x="0" y="1752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036"/>
          <p:cNvSpPr/>
          <p:nvPr/>
        </p:nvSpPr>
        <p:spPr>
          <a:xfrm>
            <a:off x="0" y="1295280"/>
            <a:ext cx="914400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Australian Institute of Sport, strength and conditioning: 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12"/>
              </a:rPr>
              <a:t>http://www.ais.org.au/condition/index.asp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Exercise Physiology – The methods and mechanisms underlying performance: 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13"/>
              </a:rPr>
              <a:t>http://home.hia.no/~stephens/exphys.htm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about metabolic adaptations and cardiovascular physiology: 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14"/>
              </a:rPr>
              <a:t>http://www.unm.edu/~lkravitz/Exercise Phys/cardiopulmonary.html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Sports science library (Gatorade Sports Science Institute): 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15"/>
              </a:rPr>
              <a:t>http://www.gssiweb.com/sportssciencecenter/topic.cfm?id=56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Sport science (site for sports research): 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16"/>
              </a:rPr>
              <a:t>http://www.sportsci.org/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PowerPoint presentation about cardiovascular adaptations from aerobic training (Illinois Wesleyan University – USA): 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17"/>
              </a:rPr>
              <a:t>http://www.iwu.edu/~bkauth/330/330-9.PP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How stuff works’ – How exercise works: 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18"/>
              </a:rPr>
              <a:t>http://health.howstuffworks.com/sports-physiology15.htm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rticle – Strength Training Basics: 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hlinkClick r:id="rId19"/>
              </a:rPr>
              <a:t>http://www.physsportsmed.com/issues/2003/0803/kraemer.htm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1037">
            <a:hlinkClick r:id="rId20" action="ppaction://hlinksldjump"/>
          </p:cNvPr>
          <p:cNvSpPr/>
          <p:nvPr/>
        </p:nvSpPr>
        <p:spPr>
          <a:xfrm>
            <a:off x="8077320" y="609588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4" h="21600">
                <a:moveTo>
                  <a:pt x="15417" y="3837"/>
                </a:moveTo>
                <a:lnTo>
                  <a:pt x="17993" y="6448"/>
                </a:lnTo>
                <a:lnTo>
                  <a:pt x="17993" y="4707"/>
                </a:lnTo>
                <a:lnTo>
                  <a:pt x="19769" y="4707"/>
                </a:lnTo>
                <a:lnTo>
                  <a:pt x="19769" y="8224"/>
                </a:lnTo>
                <a:lnTo>
                  <a:pt x="22380" y="10800"/>
                </a:lnTo>
                <a:lnTo>
                  <a:pt x="20726" y="10800"/>
                </a:lnTo>
                <a:lnTo>
                  <a:pt x="20726" y="17989"/>
                </a:lnTo>
                <a:lnTo>
                  <a:pt x="10108" y="17989"/>
                </a:lnTo>
                <a:lnTo>
                  <a:pt x="10108" y="10800"/>
                </a:lnTo>
                <a:lnTo>
                  <a:pt x="8454" y="10800"/>
                </a:lnTo>
                <a:close/>
              </a:path>
              <a:path fill="darkenLess" w="30834" h="21600">
                <a:moveTo>
                  <a:pt x="17993" y="6448"/>
                </a:moveTo>
                <a:lnTo>
                  <a:pt x="17993" y="4707"/>
                </a:lnTo>
                <a:lnTo>
                  <a:pt x="19769" y="4707"/>
                </a:lnTo>
                <a:lnTo>
                  <a:pt x="19769" y="8224"/>
                </a:lnTo>
                <a:close/>
              </a:path>
              <a:path fill="darkenLess" w="30834" h="21600">
                <a:moveTo>
                  <a:pt x="14495" y="14299"/>
                </a:moveTo>
                <a:lnTo>
                  <a:pt x="16340" y="14299"/>
                </a:lnTo>
                <a:lnTo>
                  <a:pt x="16340" y="17989"/>
                </a:lnTo>
                <a:lnTo>
                  <a:pt x="20726" y="17989"/>
                </a:lnTo>
                <a:lnTo>
                  <a:pt x="20726" y="10800"/>
                </a:lnTo>
                <a:lnTo>
                  <a:pt x="10108" y="10800"/>
                </a:lnTo>
                <a:lnTo>
                  <a:pt x="10108" y="17989"/>
                </a:lnTo>
                <a:lnTo>
                  <a:pt x="14495" y="17989"/>
                </a:lnTo>
                <a:close/>
              </a:path>
            </a:pathLst>
          </a:custGeom>
          <a:solidFill>
            <a:srgbClr val="93d5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3187440"/>
            <a:ext cx="8055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29a744"/>
                </a:solidFill>
                <a:latin typeface="Arial"/>
              </a:rPr>
              <a:t>Anaerobic and Aerobic Adap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Training Adap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Anaerobic Energy System Adapt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6473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naero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raining the ATP-PC and lactic acid systems cau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creased levels of anaerobic enzymes and fuels (</a:t>
            </a:r>
            <a:r>
              <a:rPr b="0" lang="en-AU" sz="1800" spc="-1" strike="noStrike">
                <a:solidFill>
                  <a:srgbClr val="ff3300"/>
                </a:solidFill>
                <a:latin typeface="Arial"/>
              </a:rPr>
              <a:t>See fig. 11.2 p.263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crease in glycolytic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mprovements at the muscular level in both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ero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mprovements i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xygen upt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ransport and utilisation of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at breakdown as a f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atty acid oxidation and respiratory ATP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actate Infection Point (</a:t>
            </a:r>
            <a:r>
              <a:rPr b="0" lang="en-AU" sz="1800" spc="-1" strike="noStrike">
                <a:solidFill>
                  <a:srgbClr val="ff3300"/>
                </a:solidFill>
                <a:latin typeface="Arial"/>
              </a:rPr>
              <a:t>See fig 11.5 and 11.6 p.265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duced carbohydrate use during sub-maximal exerc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creased use of blood glucose – assisting in glycogen spa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creased capillarisation, mitochondria density and oxidative 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5" descr=""/>
          <p:cNvPicPr/>
          <p:nvPr/>
        </p:nvPicPr>
        <p:blipFill>
          <a:blip r:embed="rId1"/>
          <a:stretch/>
        </p:blipFill>
        <p:spPr>
          <a:xfrm>
            <a:off x="6948360" y="1844640"/>
            <a:ext cx="1835280" cy="181944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102" name="Picture 19" descr="CRW_3760"/>
          <p:cNvPicPr/>
          <p:nvPr/>
        </p:nvPicPr>
        <p:blipFill>
          <a:blip r:embed="rId2"/>
          <a:stretch/>
        </p:blipFill>
        <p:spPr>
          <a:xfrm>
            <a:off x="6877080" y="3933720"/>
            <a:ext cx="196380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5280" y="1844280"/>
            <a:ext cx="8501040" cy="47530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plete questions 1-6 page 265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bookCover_34"/>
          <p:cNvPicPr/>
          <p:nvPr/>
        </p:nvPicPr>
        <p:blipFill>
          <a:blip r:embed="rId1"/>
          <a:stretch/>
        </p:blipFill>
        <p:spPr>
          <a:xfrm>
            <a:off x="6850080" y="400536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j0283719"/>
          <p:cNvPicPr/>
          <p:nvPr/>
        </p:nvPicPr>
        <p:blipFill>
          <a:blip r:embed="rId2"/>
          <a:stretch/>
        </p:blipFill>
        <p:spPr>
          <a:xfrm>
            <a:off x="8028000" y="189000"/>
            <a:ext cx="828720" cy="42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187440"/>
            <a:ext cx="8055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29a744"/>
                </a:solidFill>
                <a:latin typeface="Arial"/>
              </a:rPr>
              <a:t>Cardiovascular Training Adap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Training Adap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Cardiovascular Train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576900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Cardiac Hypertrophy - Heart increases (Left ventricle) in size as a result of training. This increases the stroke volume (S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Increased capillarisation - (Coronary blood supply) of the heart – increases blood flow to the hear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Increased stroke volume - thus reducing H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Lowered resting heart rate (Increase in SV causes a decrease in HR when Q is constant – approx 5 litr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Lower heart rate during sub-maximal workloads – Due to increased S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mproved heart-rate recovery rates – Due to increased S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creases cardiac output at maximum workload – Constant at rest, but Q can reach up to 30L/min in elite athle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Cardiac Output = Stroke Volume x Heart Rate Q = SV x 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Example      Q = 5L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SV = Q/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Before training HR = 71bpm therefore the SV = 0.07L/b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After training program HR=50bp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SV now = 0.1L/b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3376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5" descr=""/>
          <p:cNvPicPr/>
          <p:nvPr/>
        </p:nvPicPr>
        <p:blipFill>
          <a:blip r:embed="rId1"/>
          <a:stretch/>
        </p:blipFill>
        <p:spPr>
          <a:xfrm>
            <a:off x="6227640" y="1700280"/>
            <a:ext cx="2719440" cy="1297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"/>
          <p:cNvPicPr/>
          <p:nvPr/>
        </p:nvPicPr>
        <p:blipFill>
          <a:blip r:embed="rId2"/>
          <a:stretch/>
        </p:blipFill>
        <p:spPr>
          <a:xfrm>
            <a:off x="6227640" y="3141720"/>
            <a:ext cx="2710080" cy="1441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"/>
          <p:cNvPicPr/>
          <p:nvPr/>
        </p:nvPicPr>
        <p:blipFill>
          <a:blip r:embed="rId3"/>
          <a:stretch/>
        </p:blipFill>
        <p:spPr>
          <a:xfrm>
            <a:off x="6732720" y="4665600"/>
            <a:ext cx="219528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Cardiovascular Train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4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324000" y="1773360"/>
            <a:ext cx="8496000" cy="36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Lower blood pressure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relieves hypertension by lowering resistance in the vess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Arterio-venous oxygen difference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- increases as athlete is able to use oxygen from arteries more effectively (</a:t>
            </a:r>
            <a:r>
              <a:rPr b="0" lang="en-AU" sz="1600" spc="-1" strike="noStrike">
                <a:solidFill>
                  <a:srgbClr val="ffffff"/>
                </a:solidFill>
                <a:latin typeface="Arial"/>
                <a:ea typeface="Arial"/>
              </a:rPr>
              <a:t>see fig 11.13 &amp; 11.14 p.271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Increased plasma, blood volume and haemoglobin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Increased capillarisation of skeletal mus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Decreased blood cholesterol, triglycerides ad Low Density Lipoproteins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(LDP). These substances are associated with coronary heart disea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Increased high density lipoproteins (HDL)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– Ratio of HDL to LDL increases, which is important for heart healt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Increased redistribution of blood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– Training can lead to a 20% increase in blood flow to working muscl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12" descr="skeletal_muscle_20x"/>
          <p:cNvPicPr/>
          <p:nvPr/>
        </p:nvPicPr>
        <p:blipFill>
          <a:blip r:embed="rId1"/>
          <a:stretch/>
        </p:blipFill>
        <p:spPr>
          <a:xfrm>
            <a:off x="826920" y="4724280"/>
            <a:ext cx="2305080" cy="1832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"/>
          <p:cNvPicPr/>
          <p:nvPr/>
        </p:nvPicPr>
        <p:blipFill>
          <a:blip r:embed="rId2"/>
          <a:stretch/>
        </p:blipFill>
        <p:spPr>
          <a:xfrm>
            <a:off x="5940360" y="4743360"/>
            <a:ext cx="287964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5:59:28Z</dcterms:created>
  <dc:creator>DE&amp;T User</dc:creator>
  <dc:description/>
  <dc:language>en-US</dc:language>
  <cp:lastModifiedBy>08311469</cp:lastModifiedBy>
  <dcterms:modified xsi:type="dcterms:W3CDTF">2008-06-17T08:34:57Z</dcterms:modified>
  <cp:revision>134</cp:revision>
  <dc:subject/>
  <dc:title>Unit 4</dc:title>
</cp:coreProperties>
</file>